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1EFB-3E5E-461E-BAEA-5034B2777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listen to the conversation, pay special attention to teacher decisions and write notes down about why they make those deci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note taking sheet? Note boo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5783-4235-4DD9-8683-D3360572A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part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6460-3DAB-4972-9DDA-D46B155E3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BE20-9B98-46D7-9311-4F91E592679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l them the design tem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 times 100 r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B714-3404-49D9-B40D-520B110BA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F9C-2B3C-41F9-B283-5818185A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327-AD69-4534-9CC5-4B39BF76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C77-4D3F-4E23-BF52-91F1C17C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660-35EB-40C2-931A-F7312833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2C6A-74F0-4626-9C94-0BB12EC6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C748-4E1E-4E8D-9CB2-B6A6C95A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84C9-47A2-4D6E-BA25-2E7E81B5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D475-32C1-4969-9B0D-0B46EF1E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6553-1ECB-4BDA-8C28-FA1A5CFA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5DBB-212B-4E0C-894A-8072B389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079C-35E4-45A7-8409-6D87CFF7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E4B9-6C9E-472F-90DE-16B1F3AB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FAB0-119C-40E3-8178-C2903DB3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A890-05F5-41B9-8B57-7B9379BB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4501-81C8-4AFF-A1D4-DDF8F7B0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A075-4FF8-4410-B1A7-FC4B09B0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5417-54DF-404B-B92B-727DF68A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D802B-285D-43FC-9B84-A5381C8C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34439-1501-43EC-9410-C2E73574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8A167-54E8-473E-BC5D-2F30E1FD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B0F9A-A60A-4859-BE96-ACBAD6DB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5AC18-941F-4C22-82A4-64B80C5C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D53-2541-411E-8525-07CE6347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904E5-5F12-4C73-8753-3A41BBA6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35DAD-4ED6-48F8-9869-6E82035F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36E90-EC25-484B-96D3-A66633F5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2005A-0233-48EB-9142-E3CD9A0F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39AA6-7B3D-489A-B9F7-FC961AFF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5B5B2-36C6-497E-9AF8-E7686A98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C1169-94DA-40E1-9185-50801B19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52022-A7C2-45A2-A634-77DD0A43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58029-6F23-4CF6-8BBA-1141B467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1F6F5-D46B-45BB-AC60-F1C70C7A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1B4-0C5A-4A22-9D5F-B0E59389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02663-65A3-4D44-9B20-E2A4C3DB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46516-5BF4-4A10-A87F-22BB1712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8AD73-9929-4C5A-BF19-0AB6EED5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6F9AF-67EC-4262-BCBE-098230B6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249BA-560E-4676-94DB-1016EC6B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D54B7-B910-4BAD-9591-98264500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78A00-A451-400E-84DF-D40962DC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24268-AB5E-4878-B931-B88BD1D7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40EE5-3351-4993-8182-0A2F0522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89193-BD5F-4BAE-B001-25AD7A74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5A6E-3BD2-4604-8C64-70163BA4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16CAD-2D5D-4B31-B156-8A6B979C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794C9-2E02-43FE-9F97-048C3F48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5B718-C2D0-4FB8-AB25-39CC3EED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3F220-E3A5-45D0-B34A-4ED2842D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35F8D-775A-4A31-A6FF-F1E3CB91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8DEF7-60D8-47EE-87F4-E56E07F9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A366F-0F1A-47A3-ACFE-CB0FC50B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08F04-DF9E-4A20-9DEA-469D9975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831BC-1409-4FFC-A82B-1FF0A45E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02815-2D71-4BDE-AA9C-C7CBA110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001-91B6-4FE0-8444-61572617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9351C-E0C7-4544-BD22-EFE1DBCB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93054-7C83-497A-89F3-EB50EFB8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01B6F-993E-499E-A567-E8A85FEB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F2D76-A296-4019-9B5B-77DD9D74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36148-2B25-455E-9F91-A1894685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8AF84-610B-40B6-A2A4-60994C9B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1AB03-413D-42F2-AAFD-1FDB102D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D9E43-EA22-4D30-A655-55EBB3B0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9B14A-D6B0-4C0B-832D-D58AB838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E1073-067C-4C9F-9C88-8E7F89B4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C2A-4DAE-42BD-A765-B846F907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6C469-3EB0-4241-8D46-3ED8ED3B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A95CA-6E8E-4CDA-B3DD-A8D581D1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E5013-078F-4D4A-BCA0-AD1FA849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E8B44-49F1-4BFC-A320-20658874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8915C-0DC6-4A84-AEE4-6AAAE35F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97AB8-F616-4062-ACA4-0BB8FEF6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0EB35-1F43-4F41-A3CA-9B0D2713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C423C-86DA-4D2A-8D29-5F0E2E84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5BFCF-766D-4885-BCF0-74DBE64A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27836-0155-451B-912A-69D80412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BF1-3340-4085-AAA4-05F72044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D50A5-C8A1-4717-92E7-23D7FA4F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2BE2C-2A26-475D-9A64-B23791E4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E011E-9029-41BD-A671-16737A48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E80C0-090D-4FDE-8C09-56F305EB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D36D9-0486-4C8F-9387-6ABBC863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5A9-60E1-4F42-AC19-16965A85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cfbf8">
              <a:alpha val="33000"/>
            </a:srgbClr>
          </a:solidFill>
          <a:ln cap="rnd" w="3240">
            <a:solidFill>
              <a:srgbClr val="ccc6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bf6ea"/>
            </a:solidFill>
            <a:miter/>
          </a:ln>
          <a:effectLst>
            <a:outerShdw dist="12600" dir="5400000" blurRad="0" rotWithShape="0">
              <a:srgbClr val="ada99f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3170-D466-465B-9028-9A05FE14E2F9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6e6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cfbf8">
              <a:alpha val="33000"/>
            </a:srgbClr>
          </a:solidFill>
          <a:ln cap="rnd" w="3240">
            <a:solidFill>
              <a:srgbClr val="ccc6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bf6ea"/>
            </a:solidFill>
            <a:miter/>
          </a:ln>
          <a:effectLst>
            <a:outerShdw dist="12600" dir="5400000" blurRad="0" rotWithShape="0">
              <a:srgbClr val="ada99f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6e6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a3e1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419B-E519-4DB9-88A1-8E36A271AE61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6e6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a3e1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D772-D000-4B40-81D9-E5E8C73DB528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9D62-4C9D-4A44-B2D7-568645E612E2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6e6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3781-2DA6-4F23-ADB1-DF9D60663A99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06CE-A0C9-4D65-A1C4-CA07048B9E74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5ddc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9e5dc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29D0-49D0-48C7-872D-3E6FF97F6E85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curriculum.prairiepride.org/Curriculum/MapPage.aspx?overviewID=1406&amp;OverviewTitle=8th%20grade%20language%20arts&amp;Designers=wanderson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ccsdnewteacher2009-10.wikispaces.com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New Teacher Learning 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3636"/>
                </a:solidFill>
                <a:latin typeface="Gill Sans MT"/>
              </a:rPr>
              <a:t>12/7/09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4" descr="C:\Users\ychen\AppData\Local\Microsoft\Windows\Temporary Internet Files\Content.IE5\60M1IPZ6\MPj04433150000[1].jpg"/>
          <p:cNvPicPr/>
          <p:nvPr/>
        </p:nvPicPr>
        <p:blipFill>
          <a:blip r:embed="rId1"/>
          <a:stretch/>
        </p:blipFill>
        <p:spPr>
          <a:xfrm>
            <a:off x="2666880" y="2362320"/>
            <a:ext cx="5034240" cy="334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Research Background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dependently read and highlight (10-12 minute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e a summary using the Write Tool 101 strategy (15 minute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ready to share (Will sample by  calling  group #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Not by default, but by design…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82480" y="1847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8" name="Picture 2" descr="C:\Users\ychen\AppData\Local\Microsoft\Windows\Temporary Internet Files\Content.IE5\8DYO9J6P\MPj04393320000[1].jpg"/>
          <p:cNvPicPr/>
          <p:nvPr/>
        </p:nvPicPr>
        <p:blipFill>
          <a:blip r:embed="rId1"/>
          <a:stretch/>
        </p:blipFill>
        <p:spPr>
          <a:xfrm>
            <a:off x="1447920" y="1905120"/>
            <a:ext cx="6400800" cy="41148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5"/>
          <p:cNvSpPr/>
          <p:nvPr/>
        </p:nvSpPr>
        <p:spPr>
          <a:xfrm>
            <a:off x="1752480" y="2590920"/>
            <a:ext cx="556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Gill Sans MT"/>
              </a:rPr>
              <a:t>Double entry journal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Gill Sans MT"/>
              </a:rPr>
              <a:t>What did she decide to do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Gill Sans MT"/>
              </a:rPr>
              <a:t>What was she think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6a6363"/>
                </a:solidFill>
                <a:latin typeface="Arial"/>
              </a:rPr>
              <a:t>Understanding By Design:</a:t>
            </a:r>
            <a:br>
              <a:rPr sz="4900"/>
            </a:br>
            <a:r>
              <a:rPr b="0" lang="en-US" sz="4900" spc="-1" strike="noStrike">
                <a:solidFill>
                  <a:srgbClr val="6a6363"/>
                </a:solidFill>
                <a:latin typeface="Arial"/>
              </a:rPr>
              <a:t>Interview Wendy</a:t>
            </a:r>
            <a:endParaRPr b="0" lang="en-US" sz="49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37720" y="2819160"/>
            <a:ext cx="403884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ink/Wh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648320" y="2819160"/>
            <a:ext cx="403848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Decision/Do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aptured in the maps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Gill Sans MT"/>
                <a:hlinkClick r:id="rId1"/>
              </a:rPr>
              <a:t>Wendy’s Ma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Table Collaboration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ssign rol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#1: Evidence of essential understanding/ques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#2: Evidence of high level assessment/lear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#3: Evidence of scaffolding toward final perform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#4: Evidence of active cognitive engagement among stud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Table Collaboration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are and contrast Wendy’s lesson and your research summ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art on paper using a graphic organiz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ready to sha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(All member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Guided Practice</a:t>
            </a:r>
            <a:br>
              <a:rPr sz="4300"/>
            </a:br>
            <a:r>
              <a:rPr b="0" lang="en-US" sz="3600" spc="-1" strike="noStrike">
                <a:solidFill>
                  <a:srgbClr val="6a6363"/>
                </a:solidFill>
                <a:latin typeface="Gill Sans MT"/>
              </a:rPr>
              <a:t>Keeping the model lesson and </a:t>
            </a:r>
            <a:br>
              <a:rPr sz="3600"/>
            </a:br>
            <a:r>
              <a:rPr b="0" lang="en-US" sz="3600" spc="-1" strike="noStrike">
                <a:solidFill>
                  <a:srgbClr val="6a6363"/>
                </a:solidFill>
                <a:latin typeface="Gill Sans MT"/>
              </a:rPr>
              <a:t>research in mind…</a:t>
            </a:r>
            <a:endParaRPr b="0" lang="en-US" sz="36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2514600"/>
            <a:ext cx="7499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o to Iowa Core –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entury Lear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ministrators coach one or two group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pen up individual map and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rite at least 1-2 essential ques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rite at least 2-5 expanded ski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ke a 10 minutes break. Demo starts at 2:2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Live Demo – Wendy Anderson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lesson template to recor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ke a moment to write notes o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vidence of communicating learning targets to stud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vidence of interactive strategies including CFU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 students and teach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 cont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are with a partn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C:\Users\ychen\AppData\Local\Microsoft\Windows\Temporary Internet Files\Content.IE5\WRY5J6MP\MPj04090090000[1].jpg"/>
          <p:cNvPicPr/>
          <p:nvPr/>
        </p:nvPicPr>
        <p:blipFill>
          <a:blip r:embed="rId1"/>
          <a:stretch/>
        </p:blipFill>
        <p:spPr>
          <a:xfrm>
            <a:off x="-190440" y="-2513160"/>
            <a:ext cx="9334440" cy="9371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Gill Sans MT"/>
              </a:rPr>
              <a:t>        </a:t>
            </a:r>
            <a:r>
              <a:rPr b="0" lang="en-US" sz="4300" spc="-1" strike="noStrike">
                <a:solidFill>
                  <a:srgbClr val="ffff00"/>
                </a:solidFill>
                <a:latin typeface="Gill Sans MT"/>
              </a:rPr>
              <a:t>Line of Learning 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09120" y="152352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ill Sans MT"/>
              </a:rPr>
              <a:t>How might the students act differently if the interactive strategies are taken out of the lesson?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274680"/>
            <a:ext cx="769608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a6363"/>
                </a:solidFill>
                <a:latin typeface="Gill Sans MT"/>
              </a:rPr>
              <a:t>Guided Practice – 20 minutes</a:t>
            </a:r>
            <a:br>
              <a:rPr sz="3500"/>
            </a:b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Principals and administrators will coach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90720" y="2133360"/>
            <a:ext cx="7696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ider Wendy’s lesson and the ICC mod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velop a lesson plan using the same templ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ork individuall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Welcome!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t lunch and settle 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view your notes/line of learning from past sessio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ing by design/Backward desig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ear learning targ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t computer ready  for map and tal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Know how to access Wik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6a6363"/>
                </a:solidFill>
                <a:latin typeface="Gill Sans MT"/>
              </a:rPr>
              <a:t>             </a:t>
            </a:r>
            <a:r>
              <a:rPr b="0" lang="en-US" sz="3500" spc="-1" strike="noStrike">
                <a:solidFill>
                  <a:srgbClr val="6a6363"/>
                </a:solidFill>
                <a:latin typeface="Gill Sans MT"/>
              </a:rPr>
              <a:t>Peer Coaching</a:t>
            </a:r>
            <a:br>
              <a:rPr sz="3500"/>
            </a:br>
            <a:br>
              <a:rPr sz="3500"/>
            </a:br>
            <a:r>
              <a:rPr b="0" lang="en-US" sz="3200" spc="-1" strike="noStrike">
                <a:solidFill>
                  <a:srgbClr val="6a6363"/>
                </a:solidFill>
                <a:latin typeface="Gill Sans MT"/>
              </a:rPr>
              <a:t>Read each other’s lesson first, then provid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specific feedback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t is aligned with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the LO of today’s session</a:t>
            </a:r>
            <a:endParaRPr b="0" lang="en-US" sz="32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600" y="2743200"/>
            <a:ext cx="6108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Two star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One stretch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urriculum Planning Tool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the too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 you pl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fter you tea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ile you collabor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you conference with your principal or ment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Reciprocity - Expectations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fore next workshop (January 15)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pdate your map as you plan, revise or dialogue, applying UB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ild scaffolded lessons toward the big idea and skills on the ma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ild interactions and CFU throughout the less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Reciprocity - Suppor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ork on the map and lesson with your PP and Ment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ference with your principal regarding  your map and less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ki –what interactive strategies (including CFU), did you use to keep students cognitively engaged and challenged -  minimum one entry or respons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1219320"/>
            <a:ext cx="749772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Line of Learning </a:t>
            </a:r>
            <a:br>
              <a:rPr sz="4300"/>
            </a:b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and Feedback</a:t>
            </a:r>
            <a:br>
              <a:rPr sz="4300"/>
            </a:b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on </a:t>
            </a:r>
            <a:r>
              <a:rPr b="0" lang="en-US" sz="4300" spc="-1" strike="noStrike" u="sng">
                <a:solidFill>
                  <a:srgbClr val="cc9900"/>
                </a:solidFill>
                <a:uFillTx/>
                <a:latin typeface="Gill Sans MT"/>
                <a:hlinkClick r:id="rId1"/>
              </a:rPr>
              <a:t>New Teacher Wiki</a:t>
            </a:r>
            <a:br>
              <a:rPr sz="4300"/>
            </a:b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Next New Teacher Workshop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anuary 1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cus: Think Aloud and all previous lear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id year assess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acher self-ass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cipal observation, coaching and feedb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6a6363"/>
                </a:solidFill>
                <a:latin typeface="Gill Sans MT"/>
              </a:rPr>
              <a:t>Assessment focuses – </a:t>
            </a:r>
            <a:r>
              <a:rPr b="0" lang="en-US" sz="3600" spc="-1" strike="noStrike">
                <a:solidFill>
                  <a:srgbClr val="6a6363"/>
                </a:solidFill>
                <a:latin typeface="Gill Sans MT"/>
              </a:rPr>
              <a:t>implementation of the following…</a:t>
            </a:r>
            <a:endParaRPr b="0" lang="en-US" sz="36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pply backward design in unit plann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vidence of scaffolding in maps (expanded skills) and lesso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ink learning objectives to map content and skill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sign EDI lesso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mbed interactive strategies to cognitively engage students in learn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lanned CFU (before, during and after each lesson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What was helpful?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xamples of scaffolding in maps and lesso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ear and explicit model of UBD and L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rofessional level discussion with peers on unit/less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nteract with others across the district to see how ideas are use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lan with job-alike peers on real units/lesso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eing real lessons and maps helps to put all pieces together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6a6363"/>
                </a:solidFill>
                <a:latin typeface="Gill Sans MT"/>
              </a:rPr>
              <a:t>Impact on your teaching and planning</a:t>
            </a:r>
            <a:endParaRPr b="0" lang="en-US" sz="39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ok toward my culminating outcome before I write my lesson objectiv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nk LO and skills in my ma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corporate m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plann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FU’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tivities are important in my lessons but skills in maps are about what students will b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ble to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kis – I see how they can be used in my classro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How to support you?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serve my lessons and give me targeted feedbac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inue to have new teacher workshop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6a6363"/>
                </a:solidFill>
                <a:latin typeface="Gill Sans MT"/>
              </a:rPr>
              <a:t>We asked you to work with your principal on…</a:t>
            </a:r>
            <a:endParaRPr b="0" lang="en-US" sz="39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y next workshop - Be prepared to bring a unit (map) and a lesson using the unit/lesson design templ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UBD/EDI concept reflected in plan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Expanded skill statements in map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lear learning objectives/targets in lesson pl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Planned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CFU before, during and after instr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Debriefing Partners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one you don’t work wit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one you don’t know we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d partner 1 and 2, including administrato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y with partner 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e to front if you are still search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a6363"/>
                </a:solidFill>
                <a:latin typeface="Arial"/>
              </a:rPr>
              <a:t>MAP and TALK </a:t>
            </a:r>
            <a:r>
              <a:rPr b="0" lang="en-US" sz="4000" spc="-1" strike="noStrike">
                <a:solidFill>
                  <a:srgbClr val="6a6363"/>
                </a:solidFill>
                <a:latin typeface="Arial"/>
              </a:rPr>
              <a:t>(with partner 2)</a:t>
            </a:r>
            <a:endParaRPr b="0" lang="en-US" sz="40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did you apply Understanding by Design in your map? (Share one essential question with your partne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did you build scaffolding (Expanded Skills) in your ma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ready to sha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your partner’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amples or insigh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Objectives of the Day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rticulat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rationale of UB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Link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esson objectives with skills in map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esig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units and lessons aligned with UBD, clear targets, engagement strategeis and scaffoldin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mb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effective interactive strategies in lessons/maps (Include Planned CFU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1:20:39Z</dcterms:created>
  <dc:creator>ychen</dc:creator>
  <dc:description/>
  <dc:language>en-US</dc:language>
  <cp:lastModifiedBy>ychen</cp:lastModifiedBy>
  <dcterms:modified xsi:type="dcterms:W3CDTF">2009-12-04T23:35:51Z</dcterms:modified>
  <cp:revision>71</cp:revision>
  <dc:subject/>
  <dc:title>New Teacher Learning Series</dc:title>
</cp:coreProperties>
</file>